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FDD1B-9C8E-4488-97FB-8E12DEEA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7400-CF1C-414E-90EA-432563FF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AFEB5-76E1-493E-BA3A-76F57F23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DF4BB-61D9-4950-A6CE-84F39812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948E-11F4-4552-B910-3906E1CD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677D-A7F3-4AE0-88FE-D29B6460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3893-3B58-449F-AB3D-D26F797C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F8EA-E0C4-4919-B980-C5207730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DF6E-DFEA-45D8-B195-970DBE15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0EC4-4BA1-4BF8-B141-9C245E75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1E6E-8618-4A27-A283-78B30949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AD695-1332-4886-855A-1F0A4990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1C11-C021-400D-AB73-6BCA1339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2B5C-0D6A-47AE-9DA4-CFEFE449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1644-393E-413C-92B0-4277133E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CCD2-C429-430F-8599-F65692F3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B38D-0DF9-45AC-828F-C60A0256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0BA04-7E61-4445-9F3E-7A89BD9E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FBB6-C7BA-42C6-8B2F-F1DA7830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2067-E202-4FEF-AC1B-B65633E4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812C9-3922-4361-A827-7FF92743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30BB3-D9EA-47BD-832A-D08437BF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C2DD-F5A7-4F7E-A543-95B33956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A287-6CF7-4B1C-AB38-1FD20881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9A08-6E6F-4EBF-BB3A-28A31DD711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73D1-B80B-4221-8BD3-ED6616C0E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Reactions in Aqueous Sol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2F15-3BC0-444B-998E-F370FF6E49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4000"/>
            </a:b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Dilution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تخفي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procedure for 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ess concentrated solution from a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e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 law: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قانون التخفيف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00720" y="2637000"/>
            <a:ext cx="2523960" cy="3415320"/>
            <a:chOff x="6300720" y="2637000"/>
            <a:chExt cx="2523960" cy="3415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300720" y="2637000"/>
              <a:ext cx="252396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550200" y="4696920"/>
              <a:ext cx="21171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solutions of different concen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3645000"/>
                <a:ext cx="4392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4797360"/>
            <a:ext cx="220968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بل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8680" y="4869000"/>
            <a:ext cx="221004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132600"/>
            <a:ext cx="8204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units of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&amp;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must be the same (ml or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3FBB-2562-43E1-A132-9715053C5C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8 p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ow you would prepare 5.00 x 10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mL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.75 M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solution, starting with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8.61 M stock solution of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637000"/>
            <a:ext cx="7056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75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.61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508640"/>
                <a:ext cx="806436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l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25200" y="13208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5920" y="404640"/>
            <a:ext cx="55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440" y="19652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D6AD-5407-45A7-AD0E-DAA05595EE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10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st Exa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1, 2, 3, &amp;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6F3F-2DF0-47D4-9174-7D312B12DD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Reactions in Aqueous Solution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147-15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6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.60, 4.62, 4.64, 4.66, 4.70, 4.7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2DDAF-3562-4859-A8FC-321ED7E737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: 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Reactions in Aqueous Solution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.5 Concentra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ilu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CBEA-9340-48EA-A46E-856B73DE78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3600"/>
            </a:b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Molarity</a:t>
            </a: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ncentration of solution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amount of solute (solid or liquid) present in a given amount of solvent (liq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st common unit to express the concentration i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 (M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number of moles of solute p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unit of molarity is mol/L = Molar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4221000"/>
                <a:ext cx="354816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lar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s of 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ters of solutio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DEC6D-FAD5-4774-BD84-A9EC41DFB8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M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419640" y="1101600"/>
                <a:ext cx="14396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42920" y="2349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364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0" y="321300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iven: n &amp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211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325764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Given:  V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5516640"/>
                <a:ext cx="403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3F680-21FF-429A-BE53-90300A7353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3560" y="8110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a Solution of Know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_16"/>
          <p:cNvPicPr/>
          <p:nvPr/>
        </p:nvPicPr>
        <p:blipFill>
          <a:blip r:embed="rId1"/>
          <a:stretch/>
        </p:blipFill>
        <p:spPr>
          <a:xfrm>
            <a:off x="228600" y="19890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60E3E-6D3C-4A01-A085-FE3798343C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6 p1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grams of potass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r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 are required to prepare a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l solution whose concentration is 2.16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3700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 = 250 ml = 250 ml/1000 = 0.25 L; M = 2.16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59280" y="4143240"/>
                <a:ext cx="597672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mol/L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x 2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9 g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7B7C-C5B5-461C-99DA-13BDB665D2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7 p14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biochemical assay, a chemist needs to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3.81 g of glucose to a reaction mixtur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volume in milliteres of a 2.53 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lution she should use for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104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m = 3.81 g ; M = 2.53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(L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43280" y="4149720"/>
                <a:ext cx="687672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/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 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1582-0961-45AB-821E-11D08530F8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656160" y="2500200"/>
            <a:ext cx="1752480" cy="856080"/>
            <a:chOff x="3656160" y="2500200"/>
            <a:chExt cx="1752480" cy="856080"/>
          </a:xfrm>
        </p:grpSpPr>
        <p:sp>
          <p:nvSpPr>
            <p:cNvPr id="136" name=""/>
            <p:cNvSpPr/>
            <p:nvPr/>
          </p:nvSpPr>
          <p:spPr>
            <a:xfrm>
              <a:off x="3656160" y="2917440"/>
              <a:ext cx="175248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5280" y="25002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200" y="2957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cc"/>
                  </a:solidFill>
                  <a:latin typeface="Arial"/>
                </a:rPr>
                <a:t>Add Sol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78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7240" y="1052640"/>
            <a:ext cx="2914560" cy="33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7EDA-5801-474D-B9C0-AC2985F79E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7:27Z</dcterms:modified>
  <cp:revision>500</cp:revision>
  <dc:subject/>
  <dc:title>General Chemistry CHEM 110</dc:title>
</cp:coreProperties>
</file>